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BC6-CFCF-44F5-82FD-A74C1863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C8F-81E8-42DE-9DC5-D63E395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4BD-9F63-4394-A37C-FCE380B2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E1E-50D3-4BA1-938C-12242E2C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7B6-EFFE-4991-BAD9-18F8C224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884-1130-4855-AA50-89481E5C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D6C-6BE9-4772-9A8F-716EFED5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507-2982-427F-BE1B-B70AE4C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35F-F623-493B-A1FA-97BD2ED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D1B-492B-4F41-9775-532BCC94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628-985A-4D3F-94C6-30DC74C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75B-5963-4D26-9957-C830D15F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AD2-6B60-42A5-942F-7E6964EF8FE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684360" y="836640"/>
            <a:ext cx="7632720" cy="374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Arial Black"/>
                <a:ea typeface="Arial"/>
              </a:rPr>
              <a:t>Topic: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Arial Black"/>
                <a:ea typeface="Arial"/>
              </a:rPr>
              <a:t>Looking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Arial Black"/>
                <a:ea typeface="Arial"/>
              </a:rPr>
              <a:t>for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Arial Black"/>
                <a:ea typeface="Arial"/>
              </a:rPr>
              <a:t>accommodation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Useful words related to homest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268280"/>
            <a:ext cx="835344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 or quality: expensive, cheap, compet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 pe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 minute reservation / boo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ine Book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 friendly  or family frien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 can you offer for breakfast at your B&amp; 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ilk and ce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bread and bu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ffee (black or w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o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ju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gg (hard-boiled or soft-boi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ggs (scrambled, omelette, fri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ba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aus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ee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ontinental breakfast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0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imes New Roman"/>
              </a:rPr>
              <a:t>CONTINENTAL BREAKFAS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imes New Roman"/>
              </a:rPr>
              <a:t>FRIED EGG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5280" y="458100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imes New Roman"/>
              </a:rPr>
              <a:t>BAC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2" descr=""/>
          <p:cNvPicPr/>
          <p:nvPr/>
        </p:nvPicPr>
        <p:blipFill>
          <a:blip r:embed="rId1"/>
          <a:stretch/>
        </p:blipFill>
        <p:spPr>
          <a:xfrm>
            <a:off x="0" y="947880"/>
            <a:ext cx="831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imes New Roman"/>
              </a:rPr>
              <a:t>SAUSAG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7"/>
          <p:cNvGraphicFramePr/>
          <p:nvPr/>
        </p:nvGraphicFramePr>
        <p:xfrm>
          <a:off x="0" y="1773360"/>
          <a:ext cx="892980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298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8108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imes New Roman"/>
              </a:rPr>
              <a:t>TOAS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 can you offer for breakfast at your B&amp; 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628640"/>
            <a:ext cx="8424720" cy="266400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stess: What would you like for _____ tomorr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uest: Just __________________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stess: hard-boiled or  ______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mmunication strategies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sk about homest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escribe guest hou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You will be looking at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 can you offer for breakfast at your B&amp; 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1628640"/>
            <a:ext cx="8424720" cy="266400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stess: What would you like for 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eakfast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omorr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uest: Just 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k  and boiled egg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stess: Hard-boiled or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ft-boiled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 can you offer for breakfast at your B&amp; 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205000"/>
            <a:ext cx="8424720" cy="2664000"/>
          </a:xfrm>
          <a:prstGeom prst="rect">
            <a:avLst/>
          </a:prstGeom>
          <a:noFill/>
          <a:ln w="648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st: What would you like for _____ this mo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uest: Could it be  __________________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st:  Certai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hat can you offer for breakfast at your B&amp; 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2205000"/>
            <a:ext cx="8424720" cy="2664000"/>
          </a:xfrm>
          <a:prstGeom prst="rect">
            <a:avLst/>
          </a:prstGeom>
          <a:noFill/>
          <a:ln w="648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st: What would you like for 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eakfast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this mo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uest: Could it b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juice and toast with butter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st:  Certai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gg (hard-boiled or soft-boi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ggs (boiled, scrambled, omelette, fri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ba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aus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ee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80" y="1125360"/>
            <a:ext cx="93092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end your  answers  to</a:t>
            </a:r>
            <a:br>
              <a:rPr sz="4400"/>
            </a:br>
            <a:br>
              <a:rPr sz="5400"/>
            </a:b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inglescubatv@infomed.sld.cu 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eople search for a B&amp;B they are looking for something different and more personal than a hot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Questions guests may 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000" y="1268280"/>
            <a:ext cx="8351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accommodation do  you have : double rooms, single roo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meals do you  of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cater for special diet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cater for vegetari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ave parking area/facility? Is it off-street pa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s there a room or space for study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Questions guests may as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ave   bathroom facilities inside the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accept childre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ave  separate rooms for childre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ave  customized features for the physically-challeng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speak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accept p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escribing your pl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000" y="907560"/>
            <a:ext cx="828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vana Sunshine is a Bed and Breakfast (B&amp;B) accomodation,  located 5 minutes car ride from  2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L Streets, an area often named La Rampa, and 10 minutes walk from Revolution Square, a famous  historical landmark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a guest house with very competitive ra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scribing your pla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has the kind of accommodation  you require: double rooms and single rooms. There are also separate rooms for children or customized features for the physically-challenged. Other facilities, such as studying rooms and  parking are availab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cater for special diet requirements,  mainly for vegetarian needs. Besides,  we can provide taxi service to and from the air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00720" y="0"/>
            <a:ext cx="28432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Your hos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4920" y="475920"/>
            <a:ext cx="8280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,  Manuel and Dora,  are both retired professionals. We speak English and Fren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uel holds a degree in engineering and worked in Civil Construction for more than 30 year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ra  holds a masters degree in teaching languages. Her wish is to continue to use her love of teac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details: manuelhost@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Useful words related to homest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09656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mestay accomo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uest 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Bed and breakfast  or B &amp;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ora &amp; Garbey</dc:creator>
  <dc:description/>
  <dc:language>en-US</dc:language>
  <cp:lastModifiedBy>Och</cp:lastModifiedBy>
  <dcterms:modified xsi:type="dcterms:W3CDTF">2016-02-29T05:40:51Z</dcterms:modified>
  <cp:revision>114</cp:revision>
  <dc:subject/>
  <dc:title>PowerPoint Presentation</dc:title>
</cp:coreProperties>
</file>