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E1C-1409-4C99-9C7C-7AE92E3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AFE-90FC-4C60-83DD-1A40B12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EB9-9866-467F-8D04-B6FE666F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B85-0A3D-4D7B-8AB5-63C10FDE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D75-AEA9-4384-A433-0B59FBA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3A4-7C50-4C5E-A26A-DBE3A310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184-AA24-46A5-92BE-B73E826C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FC7-7815-41CD-B5A9-51E1C0B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C19-94B1-4C44-982A-9C02221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3F1-26D5-4079-8E35-7FBA9D7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6FD-20DE-4D4F-A523-9E61D20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7F4-87BC-4342-86D9-975B5D6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2CAC-B3B2-4CA3-BB2D-E07C35F307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84360" y="836640"/>
            <a:ext cx="7632720" cy="374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Topic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Integrated Practice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and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Self - evaluation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the words below to fill in the blank spaces in the dialogu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ke, need, flight, see, time, help, have, airport, direct, check, seats, le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71056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Blue Sea  Airways. Can I______ yo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 : Yes. I ______ a _____ from Havana  to  Jamaica 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iday. Do you have any___ available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Let me ____. Yes. I ______one on the 5: 30 fligh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ve thirty! What’s the check-in _____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One hour economy. Thirty minutes business class. Wi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 ____th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No. I won’t get to the________ in time. When will the next flight ______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There won’t be another ______ flight on Friday. The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l be one on Saturday at the same tim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6292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ne. I’ll _____ tha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Just let me ______. Oh, I’m sorry, that flight’s fu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71056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Blue Sea  Airways. Can I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hel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yo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 : Yes. I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 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ligh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from Havana  to  Jamaica 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iday. Do you have a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at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vailable 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Let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Yes. I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ne on the 5: 30 fligh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ve thirty! What’s the check-i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i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One hour economy. Thirty minutes business class. Wi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ak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No. I won’t get to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ir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n time. When will the next fligh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There won’t be another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irec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flight on Friday. The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l be one on Saturday at the same tim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6292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ía: Fine. I’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ak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a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t: Just let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ck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Oh, I’m sorry, that flight’s fu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actice with partne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Use  the following questions as a guide to speak about travell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et’s Talk Trav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do when you first arrive at the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o do you usually meet at the rece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What do people do at the reception when they first arrive at the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Have you ever checked into a ho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information do people usually fill into the form at the rece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What things do people usually take along when they tra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137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in your English Clubs groups; create dialogues and practic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000" y="184428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t the airport cou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Between the receptionist and the guest  to check 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Between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ceptionist and the guest  to make a complain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essages received fr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Sc. Orlando Nuez Pupo- Holguin. Suggestions of using IV co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80" y="1125360"/>
            <a:ext cx="930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nd your  answers  to</a:t>
            </a:r>
            <a:br>
              <a:rPr sz="4400"/>
            </a:br>
            <a:br>
              <a:rPr sz="5400"/>
            </a:b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inglescubatv@infomed.sld.cu 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Phr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I help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 you have any sea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ck-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f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t me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 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0" y="76500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-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words and expressions about travelling and accommodation under the correct h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3213000"/>
          <a:ext cx="8353440" cy="3382920"/>
        </p:xfrm>
        <a:graphic>
          <a:graphicData uri="http://schemas.openxmlformats.org/drawingml/2006/table">
            <a:tbl>
              <a:tblPr/>
              <a:tblGrid>
                <a:gridCol w="2373120"/>
                <a:gridCol w="2438640"/>
                <a:gridCol w="1906560"/>
                <a:gridCol w="1635120"/>
              </a:tblGrid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s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 &amp; places at the airport, hotel, travel agency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ople/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bs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 we do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t the travel agen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765000"/>
          <a:ext cx="8569440" cy="6035760"/>
        </p:xfrm>
        <a:graphic>
          <a:graphicData uri="http://schemas.openxmlformats.org/drawingml/2006/table">
            <a:tbl>
              <a:tblPr/>
              <a:tblGrid>
                <a:gridCol w="2855880"/>
                <a:gridCol w="2857680"/>
                <a:gridCol w="28558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s or thing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un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ressions or Question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1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cket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eturn ticket or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ingle ticket (brit)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ound-trip ticket, one-way ticket (ame.)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vel agent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e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fare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veler (brit.)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veller (ame.)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rist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ey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p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 tour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 holiday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flight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ren travel half price.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´d like to book…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o you have a booking available?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Will I be able to get a ticket 3 days in advance?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lease, book me on the 1.00 flight.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t the air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765000"/>
          <a:ext cx="8642160" cy="518508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2881080"/>
              </a:tblGrid>
              <a:tr h="98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s or thing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ce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ressions or Question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9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a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port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cket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rding pass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ty-free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ty-free shop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tes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t found office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l building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o go through customs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Goods to declare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Nothing to declare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o to gate…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s there a shuttle bus?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ccommod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765000"/>
          <a:ext cx="8642160" cy="518508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2881080"/>
              </a:tblGrid>
              <a:tr h="98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s or thing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ce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ressions or Questions 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9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port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ing confirmation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 card or cash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tion Desk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m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ing hall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s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icap facilities 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s there room service?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I want to make a complaint.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 table for 2, please.</a:t>
                      </a: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ora &amp; Garbey</dc:creator>
  <dc:description/>
  <dc:language>en-US</dc:language>
  <cp:lastModifiedBy>Och</cp:lastModifiedBy>
  <dcterms:modified xsi:type="dcterms:W3CDTF">2016-02-29T06:00:13Z</dcterms:modified>
  <cp:revision>89</cp:revision>
  <dc:subject/>
  <dc:title>PowerPoint Presentation</dc:title>
</cp:coreProperties>
</file>