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FD3D-D5AE-4F5C-8DFE-3EA28BAE5B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6095-E2C5-4C37-A090-1D15F717E6B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BDA9-F64E-4C18-9998-1CAE2ECD677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82D5-BD84-4DBC-9B49-910AE63C6F3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DA8E-DDAD-4A98-AE75-D7795A34A5A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EB3-5107-464E-B34B-8751FFA9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1D9-9D35-4B74-8F68-5B05EB62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749-02B2-4877-9479-21BF202C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DC9-A091-4F95-AFC3-DA02C3FA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35C1-F082-468E-B718-4696E70E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09D3-9C31-4319-99BA-56ED4F8A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8228-FE5D-4311-B05A-833856A2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EED1-ABA7-468C-A27F-938D79B0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65BA-9B97-4FF2-91E7-D3DA17E5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6432-049E-4587-942B-67F5B088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DEB2-1F97-41D1-BF61-920E4C67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95A8-5E96-430E-8F03-95BF322C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E3F8-8AA3-46AF-9846-2FFD363B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E062-C8E4-4CF6-ABE2-B1A698AC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A340-A9FF-49BB-B7DF-A6C6F470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0CB5-E3F6-485E-9860-21435FC7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E085-7A68-475A-B96B-FEA4D985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49693-9E15-49EB-8A11-891FF578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5A5DC-9306-4044-89A9-D7DDEE51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B6C9B-C697-4761-B484-E3EB6F7D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DE9DF-84D7-4FA1-B885-A509EDAE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0EB03-36EE-476F-B95C-FD6CCFD6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7F94-D67E-4472-BB20-1552F161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56FC5-0D05-4269-B27A-D9DDDE80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69B79-6347-4049-86ED-F1BC4F04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3EFC6-5CC3-4982-BB16-1DB022F3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83FA8-2112-4869-99EA-3C97F57B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AF0FC-4F25-4D37-B0D5-BA8A43B9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E235E-DB9A-419E-AE8A-D377FBE8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D531C-FF37-46BE-8FAB-4990C5AA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6E035-2E31-42BC-A020-3F0C3484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573D6-B80D-416A-9D9E-99D63653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2A79C-B07D-4C71-BBFE-81B29D96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B0F-FCB0-4A52-BF12-965A0535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F52A8-9168-4B2A-B6C7-7E54CA12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C6AEC-23E4-4115-86FC-AD27828D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77F9D-30F2-4D72-82D4-6375AD30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0EF1B-14FD-4216-9A1A-24F40B72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7623D-83B3-48A7-9D4B-B9D17F3B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98BD7-EDE6-4B05-AD7A-FFD880B5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7DCA1-29C1-4B9E-8967-88638470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1E31A-E3A6-44F9-8FC1-C4CED7F3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3B8DE-B125-4078-A3F9-F914DFA5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A392C-8FB7-409C-B267-5174B8CC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211-44B3-4704-B8B9-750F3EB2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10D7B-A5EC-4C4E-BE82-D4B964B5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30CF3-E211-428E-A66A-C385DD0D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A8C01-700C-4C39-8431-2B9174C4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B436A-A778-4299-B088-FCA564F7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992AF-4F15-49A6-8958-A9AB98C8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5FAEF-4304-4B6E-B029-A2314E5A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27962-2507-449D-B981-3F8AF13D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EC4F9-3F8A-403C-A438-BE89CCB7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5217E-15A4-472E-9456-7E966572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D775C-A651-420E-BAB4-78892DAC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C2F-B7D4-4634-B59E-996BC7A1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111DC-8382-424A-BD46-32C451FB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B99F7-1B91-468D-9772-A63009FB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F3AC1-4267-4FD7-9E27-01A11EE4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CEC5F-D5EA-42E7-A473-9EE02EAA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DCFD2-CB72-43D2-B88B-4E015E04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5C383-5FC4-47CE-8CF0-80E4875F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2A490-7C8A-4062-B1BB-873F0DF9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6F967-6ADC-42CF-8D29-44C04A47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964EF-BC8A-4D44-B3D3-4026A27E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6500B-8F8A-4585-9F6B-FBC7F608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E6E4-95B7-4F59-BFE4-72C3D690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C5EB7-0272-4928-A520-1AFF164E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AFAA1-69BF-4121-959E-971351C3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7C1E8-A08D-4D0C-8CA9-813AFBA2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6CC-F3E9-4705-958A-CCAF5657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4DC1-70EC-42FD-A767-C3FD3ECA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0A3B-21C8-4FCF-B893-AFF7BF645D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8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6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2D39-44F7-4993-974A-38151647B35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4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6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8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7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5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2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3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86C9-8C4A-4173-AB7F-8732AFB9049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F506-F8A8-450A-845C-3232C4E3A4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4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44F0-DFA9-49D5-8F4F-3365F85757A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29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8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196C-0B9F-4CE4-A272-9A652AA0317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4"/>
          <p:cNvSpPr/>
          <p:nvPr/>
        </p:nvSpPr>
        <p:spPr>
          <a:xfrm>
            <a:off x="826920" y="1844640"/>
            <a:ext cx="7561440" cy="46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Arial"/>
              </a:rPr>
              <a:t>DOCTOR- PATIENT TAL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Prof. Teresita Rojas Gonzále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Prof. Cecilia Valdés Menéndez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ch the words in column A with the corresponding meanings in column B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t out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t on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ed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ld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ive 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132000" y="1196640"/>
            <a:ext cx="5865840" cy="55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___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wait for some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 to be agitated, worried  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 to manage with reason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 to abandon doing some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 to desist from do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t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3297240" y="57484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3282840" y="52689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32828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8"/>
          <p:cNvSpPr/>
          <p:nvPr/>
        </p:nvSpPr>
        <p:spPr>
          <a:xfrm>
            <a:off x="3282840" y="31291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9"/>
          <p:cNvSpPr/>
          <p:nvPr/>
        </p:nvSpPr>
        <p:spPr>
          <a:xfrm>
            <a:off x="3297240" y="21924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6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6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6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6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53272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lete the sentences with phrases from the list.  </a:t>
            </a:r>
            <a:br>
              <a:rPr sz="40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7534080" cy="30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__, I’ll call the nu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’s see how you ______ with the new med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essential for you to _______  smo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should ______  eating fast f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is no need to be __________ on problem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7"/>
          <p:cNvSpPr/>
          <p:nvPr/>
        </p:nvSpPr>
        <p:spPr>
          <a:xfrm>
            <a:off x="4788000" y="2924280"/>
            <a:ext cx="57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13 CuadroTexto"/>
          <p:cNvSpPr/>
          <p:nvPr/>
        </p:nvSpPr>
        <p:spPr>
          <a:xfrm>
            <a:off x="1000080" y="585792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t on, give up, worked up, cut out, hol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14 Rectángulo"/>
          <p:cNvSpPr/>
          <p:nvPr/>
        </p:nvSpPr>
        <p:spPr>
          <a:xfrm>
            <a:off x="1000080" y="5786280"/>
            <a:ext cx="7715160" cy="64296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15 CuadroTexto"/>
          <p:cNvSpPr/>
          <p:nvPr/>
        </p:nvSpPr>
        <p:spPr>
          <a:xfrm>
            <a:off x="857160" y="200016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Hold 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16 CuadroTexto"/>
          <p:cNvSpPr/>
          <p:nvPr/>
        </p:nvSpPr>
        <p:spPr>
          <a:xfrm>
            <a:off x="4143240" y="24289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get 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18 CuadroTexto"/>
          <p:cNvSpPr/>
          <p:nvPr/>
        </p:nvSpPr>
        <p:spPr>
          <a:xfrm>
            <a:off x="4929120" y="328608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ive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19 CuadroTexto"/>
          <p:cNvSpPr/>
          <p:nvPr/>
        </p:nvSpPr>
        <p:spPr>
          <a:xfrm>
            <a:off x="2928960" y="41432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t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20 CuadroTexto"/>
          <p:cNvSpPr/>
          <p:nvPr/>
        </p:nvSpPr>
        <p:spPr>
          <a:xfrm>
            <a:off x="4857840" y="46432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orked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2"/>
          <p:cNvSpPr/>
          <p:nvPr/>
        </p:nvSpPr>
        <p:spPr>
          <a:xfrm>
            <a:off x="468360" y="33336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428760" y="357120"/>
            <a:ext cx="635796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Giving a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ou are suffering fro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ou have develop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ou hav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500040" y="2651040"/>
            <a:ext cx="728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laining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 am going to start you on a 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ou'll be given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 expect you’ll hav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7 CuadroTexto"/>
          <p:cNvSpPr/>
          <p:nvPr/>
        </p:nvSpPr>
        <p:spPr>
          <a:xfrm>
            <a:off x="500040" y="4786200"/>
            <a:ext cx="714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Giving ad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You shoul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You need to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2"/>
          <p:cNvSpPr/>
          <p:nvPr/>
        </p:nvSpPr>
        <p:spPr>
          <a:xfrm>
            <a:off x="324000" y="476280"/>
            <a:ext cx="8424720" cy="67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rk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D, M, A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ether the statements below are  used to explain diagnosis, management or to give ad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___ I’m going to start you on medication to lower you blood press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. ___ The doctor wants you to take things eas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 ___ It seems that you have a migraine cri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. ___ I think you should cut down on sa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___ Your headaches are due to stress at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. ___ You need to take the same dose 3 times a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3"/>
          <p:cNvSpPr/>
          <p:nvPr/>
        </p:nvSpPr>
        <p:spPr>
          <a:xfrm>
            <a:off x="785880" y="328608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789480" y="4000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788760" y="62150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717120" y="2286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3"/>
          <p:cNvSpPr/>
          <p:nvPr/>
        </p:nvSpPr>
        <p:spPr>
          <a:xfrm>
            <a:off x="785880" y="471492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4"/>
          <p:cNvSpPr/>
          <p:nvPr/>
        </p:nvSpPr>
        <p:spPr>
          <a:xfrm>
            <a:off x="789480" y="55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6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6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6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500040" y="42876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Rectangle 4"/>
          <p:cNvSpPr/>
          <p:nvPr/>
        </p:nvSpPr>
        <p:spPr>
          <a:xfrm>
            <a:off x="428760" y="1592280"/>
            <a:ext cx="842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lax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l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orr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u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liev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nx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rv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Un)concern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5 Rectángulo"/>
          <p:cNvSpPr/>
          <p:nvPr/>
        </p:nvSpPr>
        <p:spPr>
          <a:xfrm>
            <a:off x="500040" y="35712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ds used to express feel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642960" y="357120"/>
            <a:ext cx="1942920" cy="1924200"/>
          </a:xfrm>
          <a:prstGeom prst="rect">
            <a:avLst/>
          </a:prstGeom>
          <a:ln w="0">
            <a:noFill/>
          </a:ln>
        </p:spPr>
      </p:pic>
      <p:sp>
        <p:nvSpPr>
          <p:cNvPr id="705" name="2 CuadroTexto"/>
          <p:cNvSpPr/>
          <p:nvPr/>
        </p:nvSpPr>
        <p:spPr>
          <a:xfrm>
            <a:off x="500040" y="2428920"/>
            <a:ext cx="307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is not relieved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3" descr=""/>
          <p:cNvPicPr/>
          <p:nvPr/>
        </p:nvPicPr>
        <p:blipFill>
          <a:blip r:embed="rId2"/>
          <a:stretch/>
        </p:blipFill>
        <p:spPr>
          <a:xfrm>
            <a:off x="5857920" y="357120"/>
            <a:ext cx="1790640" cy="1933560"/>
          </a:xfrm>
          <a:prstGeom prst="rect">
            <a:avLst/>
          </a:prstGeom>
          <a:ln w="0">
            <a:noFill/>
          </a:ln>
        </p:spPr>
      </p:pic>
      <p:sp>
        <p:nvSpPr>
          <p:cNvPr id="707" name="4 CuadroTexto"/>
          <p:cNvSpPr/>
          <p:nvPr/>
        </p:nvSpPr>
        <p:spPr>
          <a:xfrm>
            <a:off x="5286240" y="2428920"/>
            <a:ext cx="31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 is nervous  about the t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8" name="Picture 4" descr=""/>
          <p:cNvPicPr/>
          <p:nvPr/>
        </p:nvPicPr>
        <p:blipFill>
          <a:blip r:embed="rId3"/>
          <a:stretch/>
        </p:blipFill>
        <p:spPr>
          <a:xfrm>
            <a:off x="785880" y="3500280"/>
            <a:ext cx="1838160" cy="2067120"/>
          </a:xfrm>
          <a:prstGeom prst="rect">
            <a:avLst/>
          </a:prstGeom>
          <a:ln w="0">
            <a:noFill/>
          </a:ln>
        </p:spPr>
      </p:pic>
      <p:sp>
        <p:nvSpPr>
          <p:cNvPr id="709" name="7 CuadroTexto"/>
          <p:cNvSpPr/>
          <p:nvPr/>
        </p:nvSpPr>
        <p:spPr>
          <a:xfrm>
            <a:off x="714240" y="5929200"/>
            <a:ext cx="264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He is confuse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0" name="Picture 5" descr=""/>
          <p:cNvPicPr/>
          <p:nvPr/>
        </p:nvPicPr>
        <p:blipFill>
          <a:blip r:embed="rId4"/>
          <a:stretch/>
        </p:blipFill>
        <p:spPr>
          <a:xfrm>
            <a:off x="5857920" y="3500280"/>
            <a:ext cx="1714320" cy="2152800"/>
          </a:xfrm>
          <a:prstGeom prst="rect">
            <a:avLst/>
          </a:prstGeom>
          <a:ln w="0">
            <a:noFill/>
          </a:ln>
        </p:spPr>
      </p:pic>
      <p:sp>
        <p:nvSpPr>
          <p:cNvPr id="711" name="9 CuadroTexto"/>
          <p:cNvSpPr/>
          <p:nvPr/>
        </p:nvSpPr>
        <p:spPr>
          <a:xfrm>
            <a:off x="5786280" y="5929200"/>
            <a:ext cx="235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he is relaxed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2"/>
          <p:cNvSpPr/>
          <p:nvPr/>
        </p:nvSpPr>
        <p:spPr>
          <a:xfrm>
            <a:off x="324000" y="333360"/>
            <a:ext cx="8424720" cy="61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ll in the blanks using words from the list to describe feel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unconcerned- confused- relaxed- worried- nervous- cal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he seems very____________  after 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.  I’m ________ about my health cond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3.  Don’t be ________, the test is not pain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he patient is __________ with all the medications 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hould ta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5.  Keep _______, you’ll feel better so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6.  Barry is _____________ about his lab res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3"/>
          <p:cNvSpPr/>
          <p:nvPr/>
        </p:nvSpPr>
        <p:spPr>
          <a:xfrm>
            <a:off x="2195640" y="256536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3419640" y="2708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lax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1403280" y="314172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worri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6"/>
          <p:cNvSpPr/>
          <p:nvPr/>
        </p:nvSpPr>
        <p:spPr>
          <a:xfrm>
            <a:off x="1908000" y="357336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nervo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7"/>
          <p:cNvSpPr/>
          <p:nvPr/>
        </p:nvSpPr>
        <p:spPr>
          <a:xfrm>
            <a:off x="2627280" y="400536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nfus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1692360" y="486900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al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1979640" y="544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concerned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11 Rectángulo"/>
          <p:cNvSpPr/>
          <p:nvPr/>
        </p:nvSpPr>
        <p:spPr>
          <a:xfrm>
            <a:off x="357120" y="1428840"/>
            <a:ext cx="8286840" cy="1214280"/>
          </a:xfrm>
          <a:prstGeom prst="rect">
            <a:avLst/>
          </a:prstGeom>
          <a:noFill/>
          <a:ln w="381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7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7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7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7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1 Rectángulo"/>
          <p:cNvSpPr/>
          <p:nvPr/>
        </p:nvSpPr>
        <p:spPr>
          <a:xfrm>
            <a:off x="684360" y="1490760"/>
            <a:ext cx="7991280" cy="37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glescubatv@infomed.sld.c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7 CuadroTexto"/>
          <p:cNvSpPr/>
          <p:nvPr/>
        </p:nvSpPr>
        <p:spPr>
          <a:xfrm>
            <a:off x="714240" y="1071720"/>
            <a:ext cx="3143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Patient’s words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lee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ever / elevated 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cle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ss of appet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ired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8 CuadroTexto"/>
          <p:cNvSpPr/>
          <p:nvPr/>
        </p:nvSpPr>
        <p:spPr>
          <a:xfrm>
            <a:off x="4857840" y="1143000"/>
            <a:ext cx="2928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dical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emorrh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yre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yal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re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s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g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4"/>
          <p:cNvSpPr/>
          <p:nvPr/>
        </p:nvSpPr>
        <p:spPr>
          <a:xfrm>
            <a:off x="324000" y="476280"/>
            <a:ext cx="8424720" cy="62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ad the following patients’ complaints.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s the medical term a doctor may use in 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itu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’ve been feeling completely exhausted and fatigued late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oss of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patient had loss of blood after the acci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Haemorrhage/haemorrha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’ve been off my food for d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orexia/anorex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he girl had a temperature all n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yrexia/pyrex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he patient reported episodes of ch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ig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4"/>
          <p:cNvSpPr/>
          <p:nvPr/>
        </p:nvSpPr>
        <p:spPr>
          <a:xfrm>
            <a:off x="357120" y="214200"/>
            <a:ext cx="8425080" cy="60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MEDICAL INT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can I do for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 feel very bad today, do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’s your trou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 have a terrible headach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did it sta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te last n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have you felt befo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k, I think, but a bit dizz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6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4"/>
          <p:cNvSpPr/>
          <p:nvPr/>
        </p:nvSpPr>
        <p:spPr>
          <a:xfrm>
            <a:off x="214200" y="500040"/>
            <a:ext cx="8425080" cy="61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MEDICAL INT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2001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ve you ever had high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s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t that I know o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2001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ve you noticed any change in 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on late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es, doc. I have blurred v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Have you ever been told that you su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m a serious condi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, nev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. Do you have any other sympto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, I don’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2"/>
          <p:cNvSpPr/>
          <p:nvPr/>
        </p:nvSpPr>
        <p:spPr>
          <a:xfrm flipV="1">
            <a:off x="500040" y="123120"/>
            <a:ext cx="824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Grammar Focus: Present Perf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4 CuadroTexto"/>
          <p:cNvSpPr/>
          <p:nvPr/>
        </p:nvSpPr>
        <p:spPr>
          <a:xfrm>
            <a:off x="849240" y="2833560"/>
            <a:ext cx="250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HAVE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6 Cerrar llave"/>
          <p:cNvSpPr/>
          <p:nvPr/>
        </p:nvSpPr>
        <p:spPr>
          <a:xfrm>
            <a:off x="1638360" y="2968560"/>
            <a:ext cx="428400" cy="9288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928800"/>
              <a:gd name="textAreaBottom" fmla="*/ 91764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16"/>
                  <a:pt x="10800" y="831"/>
                </a:cubicBezTo>
                <a:lnTo>
                  <a:pt x="10800" y="9969"/>
                </a:lnTo>
                <a:cubicBezTo>
                  <a:pt x="10800" y="10385"/>
                  <a:pt x="16200" y="10800"/>
                  <a:pt x="21600" y="10800"/>
                </a:cubicBezTo>
                <a:cubicBezTo>
                  <a:pt x="16200" y="10800"/>
                  <a:pt x="10800" y="11216"/>
                  <a:pt x="10800" y="11631"/>
                </a:cubicBezTo>
                <a:lnTo>
                  <a:pt x="10800" y="20769"/>
                </a:lnTo>
                <a:cubicBezTo>
                  <a:pt x="10800" y="2118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7 CuadroTexto"/>
          <p:cNvSpPr/>
          <p:nvPr/>
        </p:nvSpPr>
        <p:spPr>
          <a:xfrm>
            <a:off x="4624560" y="297036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OU     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H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8 Cerrar llave"/>
          <p:cNvSpPr/>
          <p:nvPr/>
        </p:nvSpPr>
        <p:spPr>
          <a:xfrm>
            <a:off x="5624640" y="3070080"/>
            <a:ext cx="571320" cy="1000440"/>
          </a:xfrm>
          <a:custGeom>
            <a:avLst/>
            <a:gdLst>
              <a:gd name="textAreaLeft" fmla="*/ 0 w 571320"/>
              <a:gd name="textAreaRight" fmla="*/ 206280 w 571320"/>
              <a:gd name="textAreaTop" fmla="*/ 14760 h 1000440"/>
              <a:gd name="textAreaBottom" fmla="*/ 985680 h 100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15"/>
                  <a:pt x="10800" y="1029"/>
                </a:cubicBezTo>
                <a:lnTo>
                  <a:pt x="10800" y="9771"/>
                </a:lnTo>
                <a:cubicBezTo>
                  <a:pt x="10800" y="10286"/>
                  <a:pt x="16200" y="10800"/>
                  <a:pt x="21600" y="10800"/>
                </a:cubicBezTo>
                <a:cubicBezTo>
                  <a:pt x="16200" y="10800"/>
                  <a:pt x="10800" y="11315"/>
                  <a:pt x="10800" y="11829"/>
                </a:cubicBezTo>
                <a:lnTo>
                  <a:pt x="10800" y="20571"/>
                </a:lnTo>
                <a:cubicBezTo>
                  <a:pt x="10800" y="2108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9 CuadroTexto"/>
          <p:cNvSpPr/>
          <p:nvPr/>
        </p:nvSpPr>
        <p:spPr>
          <a:xfrm>
            <a:off x="706320" y="491652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HE     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H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10 Cerrar llave"/>
          <p:cNvSpPr/>
          <p:nvPr/>
        </p:nvSpPr>
        <p:spPr>
          <a:xfrm>
            <a:off x="1521000" y="5076720"/>
            <a:ext cx="357120" cy="87948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879480"/>
              <a:gd name="textAreaBottom" fmla="*/ 870480 h 87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6"/>
                  <a:pt x="10800" y="731"/>
                </a:cubicBezTo>
                <a:lnTo>
                  <a:pt x="10800" y="10069"/>
                </a:lnTo>
                <a:cubicBezTo>
                  <a:pt x="10800" y="10435"/>
                  <a:pt x="16200" y="10800"/>
                  <a:pt x="21600" y="10800"/>
                </a:cubicBezTo>
                <a:cubicBezTo>
                  <a:pt x="16200" y="10800"/>
                  <a:pt x="10800" y="11166"/>
                  <a:pt x="10800" y="11531"/>
                </a:cubicBezTo>
                <a:lnTo>
                  <a:pt x="10800" y="20869"/>
                </a:lnTo>
                <a:cubicBezTo>
                  <a:pt x="10800" y="2123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11 CuadroTexto"/>
          <p:cNvSpPr/>
          <p:nvPr/>
        </p:nvSpPr>
        <p:spPr>
          <a:xfrm>
            <a:off x="893880" y="785880"/>
            <a:ext cx="7715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HAVE, HAS +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v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ake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your medic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ake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her med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sn’t be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the do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13 Rectángulo"/>
          <p:cNvSpPr/>
          <p:nvPr/>
        </p:nvSpPr>
        <p:spPr>
          <a:xfrm>
            <a:off x="849240" y="785880"/>
            <a:ext cx="7429680" cy="20476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285840" y="142920"/>
            <a:ext cx="8534160" cy="72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the correct form of the verbs in brackets to fill in the blank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______  ________to  the doctor recently.     (b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I _____  _______ many patients today. (se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______  they_______ the information requested? (g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The nurse _______  _________her shift yet. (not finis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Sue and I _____  _______ in different countries. (wor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Tom_____ already ________ to his family twice today. (spea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10 CuadroTexto"/>
          <p:cNvSpPr/>
          <p:nvPr/>
        </p:nvSpPr>
        <p:spPr>
          <a:xfrm>
            <a:off x="1500120" y="157176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11 CuadroTexto"/>
          <p:cNvSpPr/>
          <p:nvPr/>
        </p:nvSpPr>
        <p:spPr>
          <a:xfrm>
            <a:off x="2857680" y="157176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12 CuadroTexto"/>
          <p:cNvSpPr/>
          <p:nvPr/>
        </p:nvSpPr>
        <p:spPr>
          <a:xfrm>
            <a:off x="928800" y="25718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13 CuadroTexto"/>
          <p:cNvSpPr/>
          <p:nvPr/>
        </p:nvSpPr>
        <p:spPr>
          <a:xfrm>
            <a:off x="2357280" y="2571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14 CuadroTexto"/>
          <p:cNvSpPr/>
          <p:nvPr/>
        </p:nvSpPr>
        <p:spPr>
          <a:xfrm>
            <a:off x="785880" y="321480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15 CuadroTexto"/>
          <p:cNvSpPr/>
          <p:nvPr/>
        </p:nvSpPr>
        <p:spPr>
          <a:xfrm>
            <a:off x="3000240" y="3143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i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16 CuadroTexto"/>
          <p:cNvSpPr/>
          <p:nvPr/>
        </p:nvSpPr>
        <p:spPr>
          <a:xfrm>
            <a:off x="2571840" y="40006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s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17 CuadroTexto"/>
          <p:cNvSpPr/>
          <p:nvPr/>
        </p:nvSpPr>
        <p:spPr>
          <a:xfrm>
            <a:off x="4286160" y="400068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n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18 CuadroTexto"/>
          <p:cNvSpPr/>
          <p:nvPr/>
        </p:nvSpPr>
        <p:spPr>
          <a:xfrm>
            <a:off x="2428920" y="48578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19 CuadroTexto"/>
          <p:cNvSpPr/>
          <p:nvPr/>
        </p:nvSpPr>
        <p:spPr>
          <a:xfrm>
            <a:off x="3643200" y="485784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20 CuadroTexto"/>
          <p:cNvSpPr/>
          <p:nvPr/>
        </p:nvSpPr>
        <p:spPr>
          <a:xfrm>
            <a:off x="1643040" y="57150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21 CuadroTexto"/>
          <p:cNvSpPr/>
          <p:nvPr/>
        </p:nvSpPr>
        <p:spPr>
          <a:xfrm>
            <a:off x="4071960" y="57150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o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6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324000" y="836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611280" y="981000"/>
            <a:ext cx="770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Picture 5" descr="G:\medicos\como-lidar-com-uma-consulta-medica-decisiv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4"/>
          <p:cNvSpPr/>
          <p:nvPr/>
        </p:nvSpPr>
        <p:spPr>
          <a:xfrm>
            <a:off x="324000" y="404640"/>
            <a:ext cx="8569080" cy="77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octor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llo, Mr. Peters. The blood test is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ormal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your heartbeats are quite in keeping with a man of your ag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octor: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Hold 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now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n’t get yourself all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worked u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octor: </a:t>
            </a:r>
            <a:r>
              <a:rPr b="1" lang="es-ES" sz="3200" spc="-1" strike="noStrike">
                <a:solidFill>
                  <a:srgbClr val="a50021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utting ou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t in your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die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will be the treatment you ne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octo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Let’s see how you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get on with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octor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don’t have to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give up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yth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20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2000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2000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2000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2000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23:37:54Z</dcterms:created>
  <dc:creator>Mercy</dc:creator>
  <dc:description/>
  <dc:language>en-US</dc:language>
  <cp:lastModifiedBy>Och</cp:lastModifiedBy>
  <dcterms:modified xsi:type="dcterms:W3CDTF">2016-02-29T07:32:42Z</dcterms:modified>
  <cp:revision>176</cp:revision>
  <dc:subject/>
  <dc:title>Diapositiva 1</dc:title>
</cp:coreProperties>
</file>