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001-3214-4241-974A-6E070DF4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D67-8C71-4BB0-90B7-5F8257F5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928-8D94-4EEA-B070-E323B472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A29-E668-4095-9DE6-E80CAC4A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D726-22CE-4F11-A51B-2F09A9D9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ABB0-6078-4719-BA81-B80AD876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D18B-7463-47EA-81B3-3A11C9DF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5EE3-6658-4D75-938D-4B565EE7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7BDB-ADA1-4736-A014-881A4F92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0F90-2920-45A5-9667-71F72AB7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3026-EC07-4A39-9C97-5EF152E8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3CB-6A6F-4FCC-8C65-8ADD30CC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BDFB-41BC-4133-AB89-70616E8D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2B6E-FBD2-4AAC-9645-A73D3B6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2888-099E-4B34-8238-13F4CF00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0B70-44E3-43DE-9950-3E20EEEB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F626-F79E-4D63-A5ED-769DD29A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B27-CB03-46F6-86D8-1F139B05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8BE-BDBB-4CD2-A2E1-47713AD0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483-2726-40BD-A628-6D6BBCAD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F3C-433B-43C1-B251-41D1BE4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031-0E43-48C4-98CC-D547B8C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784-5283-4C11-9A1E-6F39D32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DEB-4F1B-4C7D-8C47-BA42D2C7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6823-949E-469C-AA7F-4767C1BC5D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217B-1927-450C-A9F9-8EE4491183B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826920" y="1844640"/>
            <a:ext cx="75614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Arial"/>
              </a:rPr>
              <a:t>GOING TO THE DOC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Profesoras: Teresita Rojas Gonzále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Cecilia Valdés Menéndez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539640" y="333360"/>
            <a:ext cx="8280360" cy="81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list below, tick ( √ ) the signs or symptoms the patient h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vo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c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head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stomach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4 CuadroTexto"/>
          <p:cNvSpPr/>
          <p:nvPr/>
        </p:nvSpPr>
        <p:spPr>
          <a:xfrm>
            <a:off x="571680" y="32860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5 CuadroTexto"/>
          <p:cNvSpPr/>
          <p:nvPr/>
        </p:nvSpPr>
        <p:spPr>
          <a:xfrm>
            <a:off x="64296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6 CuadroTexto"/>
          <p:cNvSpPr/>
          <p:nvPr/>
        </p:nvSpPr>
        <p:spPr>
          <a:xfrm>
            <a:off x="642960" y="42148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1 CuadroTexto"/>
          <p:cNvSpPr/>
          <p:nvPr/>
        </p:nvSpPr>
        <p:spPr>
          <a:xfrm>
            <a:off x="714240" y="571680"/>
            <a:ext cx="614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REQUENTLY ASKED QUESTIONS (F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WHAT IS EBO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2 CuadroTexto"/>
          <p:cNvSpPr/>
          <p:nvPr/>
        </p:nvSpPr>
        <p:spPr>
          <a:xfrm>
            <a:off x="928800" y="214308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bola is a viral hemorrhagic fever disease (VHF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ymptoms includ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ver, headache, joint and muscle aches, weakness, diarrhea, vomiting, stomach pain, lack of appetite, and abnormal blee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 CuadroTexto"/>
          <p:cNvSpPr/>
          <p:nvPr/>
        </p:nvSpPr>
        <p:spPr>
          <a:xfrm>
            <a:off x="785880" y="78588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W IS EBOLA TRANSMIT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2 CuadroTexto"/>
          <p:cNvSpPr/>
          <p:nvPr/>
        </p:nvSpPr>
        <p:spPr>
          <a:xfrm>
            <a:off x="928800" y="1643040"/>
            <a:ext cx="70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direct contact with the blood or bodily fluids of an infected symptomatic per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xposure to objects (such as needles) that have been contaminated with infected secre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1 CuadroTexto"/>
          <p:cNvSpPr/>
          <p:nvPr/>
        </p:nvSpPr>
        <p:spPr>
          <a:xfrm>
            <a:off x="214200" y="357120"/>
            <a:ext cx="86439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AN EBOLA BE TRANSMITTED THROUGH THE AIR OR FROM CONTAMINATED FOOD OR WATER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i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ot a respiratory disease like the flu, so it is not transmitted through the air. And it is not a food-borne illness  nor a water-borne illnes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95280" y="404640"/>
            <a:ext cx="8280360" cy="68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te the sentences using the words from the list be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dy fluids- vomiting- personal protective equipment- intolerance- vaccine - bl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care providers must wear special _______________________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Products containing Salicylates should not be used if there is 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The palliative treatment for _________includes rehydration and antieme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There is no ________ available against Ebola y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The transmission is through___________and contaminated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42920" y="314316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sonal protective equi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929120" y="42148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571760" y="3857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l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2500200" y="51436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vac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429080" y="54291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ody fluid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539640" y="692280"/>
            <a:ext cx="80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7072200" cy="522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7" name="5 CuadroTexto"/>
          <p:cNvSpPr/>
          <p:nvPr/>
        </p:nvSpPr>
        <p:spPr>
          <a:xfrm>
            <a:off x="642960" y="28584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ERSONAL PROTECTIVE EQUIPMENT (P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7 Conector recto de flecha"/>
          <p:cNvCxnSpPr/>
          <p:nvPr/>
        </p:nvCxnSpPr>
        <p:spPr>
          <a:xfrm flipV="1">
            <a:off x="499680" y="2071800"/>
            <a:ext cx="1143720" cy="643320"/>
          </a:xfrm>
          <a:prstGeom prst="straightConnector1">
            <a:avLst/>
          </a:prstGeom>
          <a:ln w="25560">
            <a:solidFill>
              <a:srgbClr val="001d2e"/>
            </a:solidFill>
            <a:miter/>
            <a:tailEnd len="med" type="arrow" w="med"/>
          </a:ln>
        </p:spPr>
      </p:cxnSp>
      <p:sp>
        <p:nvSpPr>
          <p:cNvPr id="249" name="8 CuadroTexto"/>
          <p:cNvSpPr/>
          <p:nvPr/>
        </p:nvSpPr>
        <p:spPr>
          <a:xfrm>
            <a:off x="0" y="235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og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" name="9 Conector recto de flecha"/>
          <p:cNvCxnSpPr/>
          <p:nvPr/>
        </p:nvCxnSpPr>
        <p:spPr>
          <a:xfrm flipV="1">
            <a:off x="785880" y="2428200"/>
            <a:ext cx="2286720" cy="857880"/>
          </a:xfrm>
          <a:prstGeom prst="straightConnector1">
            <a:avLst/>
          </a:prstGeom>
          <a:ln w="25560">
            <a:solidFill>
              <a:srgbClr val="001d2e"/>
            </a:solidFill>
            <a:miter/>
            <a:tailEnd len="med" type="arrow" w="med"/>
          </a:ln>
        </p:spPr>
      </p:cxnSp>
      <p:sp>
        <p:nvSpPr>
          <p:cNvPr id="251" name="12 CuadroTexto"/>
          <p:cNvSpPr/>
          <p:nvPr/>
        </p:nvSpPr>
        <p:spPr>
          <a:xfrm>
            <a:off x="142920" y="30718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c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14 Conector recto de flecha"/>
          <p:cNvCxnSpPr/>
          <p:nvPr/>
        </p:nvCxnSpPr>
        <p:spPr>
          <a:xfrm flipV="1">
            <a:off x="785880" y="4142880"/>
            <a:ext cx="714960" cy="286560"/>
          </a:xfrm>
          <a:prstGeom prst="straightConnector1">
            <a:avLst/>
          </a:prstGeom>
          <a:ln w="25560">
            <a:solidFill>
              <a:srgbClr val="001d2e"/>
            </a:solidFill>
            <a:miter/>
            <a:tailEnd len="med" type="arrow" w="med"/>
          </a:ln>
        </p:spPr>
      </p:cxnSp>
      <p:sp>
        <p:nvSpPr>
          <p:cNvPr id="253" name="17 CuadroTexto"/>
          <p:cNvSpPr/>
          <p:nvPr/>
        </p:nvSpPr>
        <p:spPr>
          <a:xfrm>
            <a:off x="214200" y="41432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ce sh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18 Conector recto de flecha"/>
          <p:cNvCxnSpPr/>
          <p:nvPr/>
        </p:nvCxnSpPr>
        <p:spPr>
          <a:xfrm flipV="1">
            <a:off x="713880" y="5285520"/>
            <a:ext cx="1072440" cy="358200"/>
          </a:xfrm>
          <a:prstGeom prst="straightConnector1">
            <a:avLst/>
          </a:prstGeom>
          <a:ln w="25560">
            <a:solidFill>
              <a:srgbClr val="001d2e"/>
            </a:solidFill>
            <a:miter/>
            <a:tailEnd len="med" type="arrow" w="med"/>
          </a:ln>
        </p:spPr>
      </p:cxnSp>
      <p:sp>
        <p:nvSpPr>
          <p:cNvPr id="255" name="20 CuadroTexto"/>
          <p:cNvSpPr/>
          <p:nvPr/>
        </p:nvSpPr>
        <p:spPr>
          <a:xfrm>
            <a:off x="0" y="52862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n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22 Conector angular"/>
          <p:cNvCxnSpPr/>
          <p:nvPr/>
        </p:nvCxnSpPr>
        <p:spPr>
          <a:xfrm flipV="1">
            <a:off x="571680" y="6000480"/>
            <a:ext cx="3929760" cy="357840"/>
          </a:xfrm>
          <a:prstGeom prst="bentConnector3">
            <a:avLst>
              <a:gd name="adj1" fmla="val 49995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23 CuadroTexto"/>
          <p:cNvSpPr/>
          <p:nvPr/>
        </p:nvSpPr>
        <p:spPr>
          <a:xfrm>
            <a:off x="0" y="60721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lo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25 Conector recto de flecha"/>
          <p:cNvCxnSpPr/>
          <p:nvPr/>
        </p:nvCxnSpPr>
        <p:spPr>
          <a:xfrm flipH="1">
            <a:off x="6143400" y="856800"/>
            <a:ext cx="2160" cy="78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26 CuadroTexto"/>
          <p:cNvSpPr/>
          <p:nvPr/>
        </p:nvSpPr>
        <p:spPr>
          <a:xfrm>
            <a:off x="5857920" y="6429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27 CuadroTexto"/>
          <p:cNvSpPr/>
          <p:nvPr/>
        </p:nvSpPr>
        <p:spPr>
          <a:xfrm>
            <a:off x="8072280" y="1714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28 Conector recto de flecha"/>
          <p:cNvCxnSpPr/>
          <p:nvPr/>
        </p:nvCxnSpPr>
        <p:spPr>
          <a:xfrm flipH="1" flipV="1">
            <a:off x="7428960" y="1571040"/>
            <a:ext cx="92916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2" name="32 CuadroTexto"/>
          <p:cNvSpPr/>
          <p:nvPr/>
        </p:nvSpPr>
        <p:spPr>
          <a:xfrm>
            <a:off x="3714840" y="7142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i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33 Conector recto de flecha"/>
          <p:cNvCxnSpPr/>
          <p:nvPr/>
        </p:nvCxnSpPr>
        <p:spPr>
          <a:xfrm>
            <a:off x="4499640" y="1071720"/>
            <a:ext cx="500760" cy="786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35 Conector recto de flecha"/>
          <p:cNvCxnSpPr/>
          <p:nvPr/>
        </p:nvCxnSpPr>
        <p:spPr>
          <a:xfrm flipH="1">
            <a:off x="7357680" y="5072040"/>
            <a:ext cx="100080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5" name="38 CuadroTexto"/>
          <p:cNvSpPr/>
          <p:nvPr/>
        </p:nvSpPr>
        <p:spPr>
          <a:xfrm>
            <a:off x="8143920" y="47149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nd 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6" name="40 Conector recto de flecha"/>
          <p:cNvCxnSpPr/>
          <p:nvPr/>
        </p:nvCxnSpPr>
        <p:spPr>
          <a:xfrm flipH="1">
            <a:off x="6643440" y="4071960"/>
            <a:ext cx="1715040" cy="35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7" name="42 CuadroTexto"/>
          <p:cNvSpPr/>
          <p:nvPr/>
        </p:nvSpPr>
        <p:spPr>
          <a:xfrm>
            <a:off x="8143920" y="3857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7 CuadroTexto"/>
          <p:cNvSpPr/>
          <p:nvPr/>
        </p:nvSpPr>
        <p:spPr>
          <a:xfrm>
            <a:off x="642960" y="3571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l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anks with the words from the box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8 CuadroTexto"/>
          <p:cNvSpPr/>
          <p:nvPr/>
        </p:nvSpPr>
        <p:spPr>
          <a:xfrm>
            <a:off x="500040" y="2143080"/>
            <a:ext cx="81439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.____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 the h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________ or ______protect the skin and clo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________ and _________protect the mouth and n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________ protect the eyes and the ___________ protect the entire 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The _____ is worn under the P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9 CuadroTexto"/>
          <p:cNvSpPr/>
          <p:nvPr/>
        </p:nvSpPr>
        <p:spPr>
          <a:xfrm>
            <a:off x="1071720" y="1000080"/>
            <a:ext cx="671508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ks, gloves, goggles, face shields,  respirators, gowns, scrub, ap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10 CuadroTexto"/>
          <p:cNvSpPr/>
          <p:nvPr/>
        </p:nvSpPr>
        <p:spPr>
          <a:xfrm>
            <a:off x="857160" y="22147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11 CuadroTexto"/>
          <p:cNvSpPr/>
          <p:nvPr/>
        </p:nvSpPr>
        <p:spPr>
          <a:xfrm>
            <a:off x="1143000" y="2786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12 CuadroTexto"/>
          <p:cNvSpPr/>
          <p:nvPr/>
        </p:nvSpPr>
        <p:spPr>
          <a:xfrm>
            <a:off x="3357720" y="27860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p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13 CuadroTexto"/>
          <p:cNvSpPr/>
          <p:nvPr/>
        </p:nvSpPr>
        <p:spPr>
          <a:xfrm>
            <a:off x="1143000" y="3857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14 CuadroTexto"/>
          <p:cNvSpPr/>
          <p:nvPr/>
        </p:nvSpPr>
        <p:spPr>
          <a:xfrm>
            <a:off x="3500280" y="38577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15 CuadroTexto"/>
          <p:cNvSpPr/>
          <p:nvPr/>
        </p:nvSpPr>
        <p:spPr>
          <a:xfrm>
            <a:off x="928800" y="49291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ogg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16 CuadroTexto"/>
          <p:cNvSpPr/>
          <p:nvPr/>
        </p:nvSpPr>
        <p:spPr>
          <a:xfrm>
            <a:off x="1714680" y="600084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cr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17 CuadroTexto"/>
          <p:cNvSpPr/>
          <p:nvPr/>
        </p:nvSpPr>
        <p:spPr>
          <a:xfrm>
            <a:off x="642960" y="54291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ace sh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4 Rectángulo"/>
          <p:cNvSpPr/>
          <p:nvPr/>
        </p:nvSpPr>
        <p:spPr>
          <a:xfrm>
            <a:off x="657720" y="214200"/>
            <a:ext cx="43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PRONUNCIATION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7 CuadroTexto"/>
          <p:cNvSpPr/>
          <p:nvPr/>
        </p:nvSpPr>
        <p:spPr>
          <a:xfrm>
            <a:off x="714240" y="1071720"/>
            <a:ext cx="3143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tient’s word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ever / elevated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cle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i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8 CuadroTexto"/>
          <p:cNvSpPr/>
          <p:nvPr/>
        </p:nvSpPr>
        <p:spPr>
          <a:xfrm>
            <a:off x="4857840" y="1143000"/>
            <a:ext cx="2928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dical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y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al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324000" y="476280"/>
            <a:ext cx="842472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ad the following patients’ complaints.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s the medical term a doctor may use in 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tu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’ve been feeling completely exhausted and fatigued lat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s of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tient had loss of blood after the acci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a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’ve been off my food for 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o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e girl had a temperature all n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y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e patient reported episodes of ch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ig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 flipV="1">
            <a:off x="324000" y="166680"/>
            <a:ext cx="849600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SEASES WITH COMMON WAYS OF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ENG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BO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24000" y="836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11280" y="981000"/>
            <a:ext cx="770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95280" y="404640"/>
            <a:ext cx="828036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TEREST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D YOU KNOW THAT...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agent which transmits Yellow Fever was discovered by Cuban scientist Carlos Juan Finlay in 188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Imagen 2" descr="F:\C J Finlay.jpg"/>
          <p:cNvPicPr/>
          <p:nvPr/>
        </p:nvPicPr>
        <p:blipFill>
          <a:blip r:embed="rId1"/>
          <a:stretch/>
        </p:blipFill>
        <p:spPr>
          <a:xfrm>
            <a:off x="2987640" y="3573360"/>
            <a:ext cx="266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684360" y="404640"/>
            <a:ext cx="784836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D YOU KNOW THAT...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ngue, Malaria   and Yellow Fever are all transmitted by Mosquito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5" descr="mosquito"/>
          <p:cNvPicPr/>
          <p:nvPr/>
        </p:nvPicPr>
        <p:blipFill>
          <a:blip r:embed="rId1"/>
          <a:stretch/>
        </p:blipFill>
        <p:spPr>
          <a:xfrm>
            <a:off x="2214720" y="2571840"/>
            <a:ext cx="4500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95280" y="404640"/>
            <a:ext cx="82072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D YOU KNOW THAT...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bol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isease was named after a river in a village in the Democratic Republic of the Congo when the 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outbreak took p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2143080" y="2928960"/>
            <a:ext cx="5086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468360" y="47628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D YOU KNOW THAT...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ently a group of Cuban health workers went to Africa to save lives during the new outbreak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Imagen 1" descr=""/>
          <p:cNvPicPr/>
          <p:nvPr/>
        </p:nvPicPr>
        <p:blipFill>
          <a:blip r:embed="rId1"/>
          <a:stretch/>
        </p:blipFill>
        <p:spPr>
          <a:xfrm>
            <a:off x="2643120" y="2214720"/>
            <a:ext cx="4643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468360" y="33336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11280" y="333360"/>
            <a:ext cx="820872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ID YOU KNOW THAT...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bola is considered the most deadly and contagious microorganism since the bubonic plag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is is a picture of the virus that causes Ebo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C:\Users\Dania\Desktop\virus ebola.jpg"/>
          <p:cNvPicPr/>
          <p:nvPr/>
        </p:nvPicPr>
        <p:blipFill>
          <a:blip r:embed="rId1"/>
          <a:stretch/>
        </p:blipFill>
        <p:spPr>
          <a:xfrm>
            <a:off x="2143080" y="3643200"/>
            <a:ext cx="49053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755640" y="573120"/>
            <a:ext cx="7777080" cy="65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OMMON WAYS OF 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ver /high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ralized body aches and pa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explained blee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539640" y="476280"/>
            <a:ext cx="80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468360" y="62064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5 Rectángulo"/>
          <p:cNvSpPr/>
          <p:nvPr/>
        </p:nvSpPr>
        <p:spPr>
          <a:xfrm>
            <a:off x="285840" y="785880"/>
            <a:ext cx="835812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omprehension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as the patient a healthy man befor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 cond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ere has the patient recently be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is the doctor’s initial diagno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oes the doctor need any special protection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ine the pati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23:37:54Z</dcterms:created>
  <dc:creator>Mercy</dc:creator>
  <dc:description/>
  <dc:language>en-US</dc:language>
  <cp:lastModifiedBy>Och</cp:lastModifiedBy>
  <dcterms:modified xsi:type="dcterms:W3CDTF">2016-02-29T07:43:28Z</dcterms:modified>
  <cp:revision>112</cp:revision>
  <dc:subject/>
  <dc:title>Diapositiva 1</dc:title>
</cp:coreProperties>
</file>