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C69-4048-49DB-9CEE-066CD28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87A-21B5-4717-AFDA-7419717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B6B-BF17-4F9F-A96E-6BC3D8EF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3DB-1E84-41F1-BFD1-192EF56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288C-9EC0-4D3D-8C01-A733EAA8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E8F9-431F-488D-A380-F1EB17A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B33C-6ED7-4D95-A318-359DCCF4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6A21-F6E1-4893-8D09-89FD6139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35B8-C610-447B-A597-9ACDF38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686-1A70-4B93-B70E-4A64D1BF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EB8C-F047-4E35-A39C-2A607659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5B5-A07B-4A1C-9E16-C77C2FE9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303B-B1AF-4986-8280-2653474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0AC4-1854-46E1-9718-C87BCAB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2DFC-F8DF-4E6E-8EC6-EFA0205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158-9A16-4B7D-99E5-F819FD25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7B0-806D-4503-99EE-9D393DF5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0B4-DC0E-47C8-A8DA-6FC1811B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CF0-4885-4B34-B860-4F9F7B6B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899-73F3-467F-AB9A-706BD36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BE6-C73B-4C89-B4CA-296330E6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02C-5D6F-4346-84CC-10EB732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500-AE94-4358-A1B6-94226C01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A4D-AEA1-415A-9B90-94387D8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E62-C57F-48F4-B487-65C2376A8D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E1E-3AA5-4458-8502-3BE1C896AC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826920" y="1844640"/>
            <a:ext cx="75614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Arial"/>
              </a:rPr>
              <a:t>GOING TO THE DO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Profesoras: Teresita Rojas Gonzále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ecilia Valdés Menéndez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539640" y="333360"/>
            <a:ext cx="8280360" cy="81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list below, tick ( √ ) the signs or symptoms the patient h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c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head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stomach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4 CuadroTexto"/>
          <p:cNvSpPr/>
          <p:nvPr/>
        </p:nvSpPr>
        <p:spPr>
          <a:xfrm>
            <a:off x="571680" y="32860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64296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6 CuadroTexto"/>
          <p:cNvSpPr/>
          <p:nvPr/>
        </p:nvSpPr>
        <p:spPr>
          <a:xfrm>
            <a:off x="642960" y="42148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1 CuadroTexto"/>
          <p:cNvSpPr/>
          <p:nvPr/>
        </p:nvSpPr>
        <p:spPr>
          <a:xfrm>
            <a:off x="714240" y="571680"/>
            <a:ext cx="614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REQUENTLY ASKED QUESTIONS (F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AT IS EBO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2 CuadroTexto"/>
          <p:cNvSpPr/>
          <p:nvPr/>
        </p:nvSpPr>
        <p:spPr>
          <a:xfrm>
            <a:off x="928800" y="214308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bola is a viral hemorrhagic fever disease (VHF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mptom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ver, headache, joint and muscle aches, weakness, diarrhea, vomiting, stomach pain, lack of appetite, and abnormal blee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 CuadroTexto"/>
          <p:cNvSpPr/>
          <p:nvPr/>
        </p:nvSpPr>
        <p:spPr>
          <a:xfrm>
            <a:off x="785880" y="78588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W IS EBOLA TRANSMIT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2 CuadroTexto"/>
          <p:cNvSpPr/>
          <p:nvPr/>
        </p:nvSpPr>
        <p:spPr>
          <a:xfrm>
            <a:off x="928800" y="164304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direct contact with the blood or bodily fluids of an infected symptomatic pers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ough exposure to objects (such as needles) that have been contaminated with infected secre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1 CuadroTexto"/>
          <p:cNvSpPr/>
          <p:nvPr/>
        </p:nvSpPr>
        <p:spPr>
          <a:xfrm>
            <a:off x="214200" y="357120"/>
            <a:ext cx="86439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N EBOLA BE TRANSMITTED THROUGH THE AIR OR FROM CONTAMINATED FOOD OR WATER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i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not a respiratory disease like the flu, so it is not transmitted through the air. And it is not a food-borne illness  nor a water-borne illn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95280" y="404640"/>
            <a:ext cx="828036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 the sentences using the words from the list be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ody fluids- vomiting- personal protective equipment- intolerance- vaccine -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providers must wear special _______________________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Products containing Salicylates should not be used if there is 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The palliative treatment for _________includes rehydration and antieme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There is no ________ available against Ebola y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The transmission is through___________and contaminated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2920" y="31431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onal protective equi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929120" y="42148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57176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500200" y="51436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vac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429080" y="54291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ody fluid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539640" y="69228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072200" cy="522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5 CuadroTexto"/>
          <p:cNvSpPr/>
          <p:nvPr/>
        </p:nvSpPr>
        <p:spPr>
          <a:xfrm>
            <a:off x="642960" y="2858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SONAL PROTECTIVE EQUIPMENT (P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7 Conector recto de flecha"/>
          <p:cNvCxnSpPr/>
          <p:nvPr/>
        </p:nvCxnSpPr>
        <p:spPr>
          <a:xfrm flipV="1">
            <a:off x="499680" y="2071800"/>
            <a:ext cx="1143720" cy="64332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49" name="8 CuadroTexto"/>
          <p:cNvSpPr/>
          <p:nvPr/>
        </p:nvSpPr>
        <p:spPr>
          <a:xfrm>
            <a:off x="0" y="235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og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9 Conector recto de flecha"/>
          <p:cNvCxnSpPr/>
          <p:nvPr/>
        </p:nvCxnSpPr>
        <p:spPr>
          <a:xfrm flipV="1">
            <a:off x="785880" y="2428200"/>
            <a:ext cx="2286720" cy="85788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1" name="12 CuadroTexto"/>
          <p:cNvSpPr/>
          <p:nvPr/>
        </p:nvSpPr>
        <p:spPr>
          <a:xfrm>
            <a:off x="142920" y="30718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c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14 Conector recto de flecha"/>
          <p:cNvCxnSpPr/>
          <p:nvPr/>
        </p:nvCxnSpPr>
        <p:spPr>
          <a:xfrm flipV="1">
            <a:off x="785880" y="4142880"/>
            <a:ext cx="714960" cy="28656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3" name="17 CuadroTexto"/>
          <p:cNvSpPr/>
          <p:nvPr/>
        </p:nvSpPr>
        <p:spPr>
          <a:xfrm>
            <a:off x="214200" y="41432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ce sh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4" name="18 Conector recto de flecha"/>
          <p:cNvCxnSpPr/>
          <p:nvPr/>
        </p:nvCxnSpPr>
        <p:spPr>
          <a:xfrm flipV="1">
            <a:off x="713880" y="5285520"/>
            <a:ext cx="1072440" cy="358200"/>
          </a:xfrm>
          <a:prstGeom prst="straightConnector1">
            <a:avLst/>
          </a:prstGeom>
          <a:ln w="25560">
            <a:solidFill>
              <a:srgbClr val="001d2e"/>
            </a:solidFill>
            <a:miter/>
            <a:tailEnd len="med" type="arrow" w="med"/>
          </a:ln>
        </p:spPr>
      </p:cxnSp>
      <p:sp>
        <p:nvSpPr>
          <p:cNvPr id="255" name="20 CuadroTexto"/>
          <p:cNvSpPr/>
          <p:nvPr/>
        </p:nvSpPr>
        <p:spPr>
          <a:xfrm>
            <a:off x="0" y="5286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n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22 Conector angular"/>
          <p:cNvCxnSpPr/>
          <p:nvPr/>
        </p:nvCxnSpPr>
        <p:spPr>
          <a:xfrm flipV="1">
            <a:off x="571680" y="6000480"/>
            <a:ext cx="3929760" cy="357840"/>
          </a:xfrm>
          <a:prstGeom prst="bentConnector3">
            <a:avLst>
              <a:gd name="adj1" fmla="val 49995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7" name="23 CuadroTexto"/>
          <p:cNvSpPr/>
          <p:nvPr/>
        </p:nvSpPr>
        <p:spPr>
          <a:xfrm>
            <a:off x="0" y="60721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lo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25 Conector recto de flecha"/>
          <p:cNvCxnSpPr/>
          <p:nvPr/>
        </p:nvCxnSpPr>
        <p:spPr>
          <a:xfrm flipH="1">
            <a:off x="6143400" y="856800"/>
            <a:ext cx="2160" cy="78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6 CuadroTexto"/>
          <p:cNvSpPr/>
          <p:nvPr/>
        </p:nvSpPr>
        <p:spPr>
          <a:xfrm>
            <a:off x="5857920" y="6429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7 CuadroTexto"/>
          <p:cNvSpPr/>
          <p:nvPr/>
        </p:nvSpPr>
        <p:spPr>
          <a:xfrm>
            <a:off x="8072280" y="1714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8 Conector recto de flecha"/>
          <p:cNvCxnSpPr/>
          <p:nvPr/>
        </p:nvCxnSpPr>
        <p:spPr>
          <a:xfrm flipH="1" flipV="1">
            <a:off x="7428960" y="1571040"/>
            <a:ext cx="92916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32 CuadroTexto"/>
          <p:cNvSpPr/>
          <p:nvPr/>
        </p:nvSpPr>
        <p:spPr>
          <a:xfrm>
            <a:off x="3714840" y="714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i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33 Conector recto de flecha"/>
          <p:cNvCxnSpPr/>
          <p:nvPr/>
        </p:nvCxnSpPr>
        <p:spPr>
          <a:xfrm>
            <a:off x="4499640" y="1071720"/>
            <a:ext cx="500760" cy="786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35 Conector recto de flecha"/>
          <p:cNvCxnSpPr/>
          <p:nvPr/>
        </p:nvCxnSpPr>
        <p:spPr>
          <a:xfrm flipH="1">
            <a:off x="7357680" y="5072040"/>
            <a:ext cx="100080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38 CuadroTexto"/>
          <p:cNvSpPr/>
          <p:nvPr/>
        </p:nvSpPr>
        <p:spPr>
          <a:xfrm>
            <a:off x="8143920" y="4714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nd r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6" name="40 Conector recto de flecha"/>
          <p:cNvCxnSpPr/>
          <p:nvPr/>
        </p:nvCxnSpPr>
        <p:spPr>
          <a:xfrm flipH="1">
            <a:off x="6643440" y="4071960"/>
            <a:ext cx="1715040" cy="357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42 CuadroTexto"/>
          <p:cNvSpPr/>
          <p:nvPr/>
        </p:nvSpPr>
        <p:spPr>
          <a:xfrm>
            <a:off x="8143920" y="3857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7 CuadroTexto"/>
          <p:cNvSpPr/>
          <p:nvPr/>
        </p:nvSpPr>
        <p:spPr>
          <a:xfrm>
            <a:off x="64296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anks with the words from the box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8 CuadroTexto"/>
          <p:cNvSpPr/>
          <p:nvPr/>
        </p:nvSpPr>
        <p:spPr>
          <a:xfrm>
            <a:off x="500040" y="2143080"/>
            <a:ext cx="8143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____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 the h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________ or ______protect the skin and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________ and _________protect the mouth and n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________ protect the eyes and the ___________ protect the entire 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The _____ is worn under the P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9 CuadroTexto"/>
          <p:cNvSpPr/>
          <p:nvPr/>
        </p:nvSpPr>
        <p:spPr>
          <a:xfrm>
            <a:off x="1071720" y="1000080"/>
            <a:ext cx="67150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ks, gloves, goggles, face shields,  respirators, gowns, scrub, ap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0 CuadroTexto"/>
          <p:cNvSpPr/>
          <p:nvPr/>
        </p:nvSpPr>
        <p:spPr>
          <a:xfrm>
            <a:off x="857160" y="22147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1 CuadroTexto"/>
          <p:cNvSpPr/>
          <p:nvPr/>
        </p:nvSpPr>
        <p:spPr>
          <a:xfrm>
            <a:off x="1143000" y="2786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2 CuadroTexto"/>
          <p:cNvSpPr/>
          <p:nvPr/>
        </p:nvSpPr>
        <p:spPr>
          <a:xfrm>
            <a:off x="3357720" y="27860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p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3 CuadroTexto"/>
          <p:cNvSpPr/>
          <p:nvPr/>
        </p:nvSpPr>
        <p:spPr>
          <a:xfrm>
            <a:off x="1143000" y="3857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4 CuadroTexto"/>
          <p:cNvSpPr/>
          <p:nvPr/>
        </p:nvSpPr>
        <p:spPr>
          <a:xfrm>
            <a:off x="3500280" y="38577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5 CuadroTexto"/>
          <p:cNvSpPr/>
          <p:nvPr/>
        </p:nvSpPr>
        <p:spPr>
          <a:xfrm>
            <a:off x="928800" y="49291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ogg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6 CuadroTexto"/>
          <p:cNvSpPr/>
          <p:nvPr/>
        </p:nvSpPr>
        <p:spPr>
          <a:xfrm>
            <a:off x="1714680" y="60008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cr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7 CuadroTexto"/>
          <p:cNvSpPr/>
          <p:nvPr/>
        </p:nvSpPr>
        <p:spPr>
          <a:xfrm>
            <a:off x="642960" y="54291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ace sh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4 Rectángulo"/>
          <p:cNvSpPr/>
          <p:nvPr/>
        </p:nvSpPr>
        <p:spPr>
          <a:xfrm>
            <a:off x="657720" y="21420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ONUNCIATION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7 CuadroTexto"/>
          <p:cNvSpPr/>
          <p:nvPr/>
        </p:nvSpPr>
        <p:spPr>
          <a:xfrm>
            <a:off x="714240" y="1071720"/>
            <a:ext cx="314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atient’s word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ever / elevated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cl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8 CuadroTexto"/>
          <p:cNvSpPr/>
          <p:nvPr/>
        </p:nvSpPr>
        <p:spPr>
          <a:xfrm>
            <a:off x="4857840" y="1143000"/>
            <a:ext cx="2928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dical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y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al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324000" y="476280"/>
            <a:ext cx="84247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d the following patients’ complaints.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medical term a doctor may use in 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tu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feeling completely exhausted and fatigued lat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ss of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tient had loss of blood after the acc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Ha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’ve been off my food for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girl had a temperature all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yre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e patient reported episodes of ch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ig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 flipV="1">
            <a:off x="324000" y="166680"/>
            <a:ext cx="849600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EASES WITH COMMON WAYS OF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ENG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B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24000" y="836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11280" y="981000"/>
            <a:ext cx="770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95280" y="404640"/>
            <a:ext cx="82803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RES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gent which transmits Yellow Fever was discovered by Cuban scientist Carlos Juan Finlay in 188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Imagen 2" descr="F:\C J Finlay.jpg"/>
          <p:cNvPicPr/>
          <p:nvPr/>
        </p:nvPicPr>
        <p:blipFill>
          <a:blip r:embed="rId1"/>
          <a:stretch/>
        </p:blipFill>
        <p:spPr>
          <a:xfrm>
            <a:off x="2987640" y="3573360"/>
            <a:ext cx="266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684360" y="404640"/>
            <a:ext cx="784836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ngue, Malaria   and Yellow Fever are all transmitted by Mosquito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5" descr="mosquito"/>
          <p:cNvPicPr/>
          <p:nvPr/>
        </p:nvPicPr>
        <p:blipFill>
          <a:blip r:embed="rId1"/>
          <a:stretch/>
        </p:blipFill>
        <p:spPr>
          <a:xfrm>
            <a:off x="2214720" y="257184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404640"/>
            <a:ext cx="82072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bol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sease was named after a river in a village in the Democratic Republic of the Congo when the 1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outbreak took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143080" y="2928960"/>
            <a:ext cx="5086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68360" y="476280"/>
            <a:ext cx="820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ently a group of Cuban health workers went to Africa to save lives during the new outbreak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Imagen 1" descr=""/>
          <p:cNvPicPr/>
          <p:nvPr/>
        </p:nvPicPr>
        <p:blipFill>
          <a:blip r:embed="rId1"/>
          <a:stretch/>
        </p:blipFill>
        <p:spPr>
          <a:xfrm>
            <a:off x="2643120" y="2214720"/>
            <a:ext cx="4643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68360" y="33336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11280" y="333360"/>
            <a:ext cx="820872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ID YOU KNOW THAT...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bola is considered the most deadly and contagious microorganism since the bubonic pla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is is a picture of the virus that causes Ebo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C:\Users\Dania\Desktop\virus ebola.jpg"/>
          <p:cNvPicPr/>
          <p:nvPr/>
        </p:nvPicPr>
        <p:blipFill>
          <a:blip r:embed="rId1"/>
          <a:stretch/>
        </p:blipFill>
        <p:spPr>
          <a:xfrm>
            <a:off x="2143080" y="3643200"/>
            <a:ext cx="4905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755640" y="573120"/>
            <a:ext cx="7777080" cy="65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OMMON WAYS OF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ver /high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ized body aches and p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explained blee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539640" y="476280"/>
            <a:ext cx="80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68360" y="62064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5 Rectángulo"/>
          <p:cNvSpPr/>
          <p:nvPr/>
        </p:nvSpPr>
        <p:spPr>
          <a:xfrm>
            <a:off x="285840" y="785880"/>
            <a:ext cx="835812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mprehension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as the patient a healthy man befor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 cond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ere has the patient recently be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is the doctor’s initial diagno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es the doctor need any special protection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ine the pat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23:37:54Z</dcterms:created>
  <dc:creator>Mercy</dc:creator>
  <dc:description/>
  <dc:language>en-US</dc:language>
  <cp:lastModifiedBy>Och</cp:lastModifiedBy>
  <dcterms:modified xsi:type="dcterms:W3CDTF">2016-02-29T07:43:28Z</dcterms:modified>
  <cp:revision>112</cp:revision>
  <dc:subject/>
  <dc:title>Diapositiva 1</dc:title>
</cp:coreProperties>
</file>