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gif" ContentType="image/gif"/>
  <Override PartName="/ppt/media/image10.wmf" ContentType="image/x-wmf"/>
  <Override PartName="/ppt/media/image4.jpeg" ContentType="image/jpeg"/>
  <Override PartName="/ppt/media/image7.wmf" ContentType="image/x-wmf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18.jpeg" ContentType="image/jpe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31D1-660E-4277-AD15-B1183A2C16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885-F8A2-4EFE-A195-3765C21B0D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EDF-2EF9-4E6E-AC4C-83B3FEA6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24E-A9A9-4C22-93FB-DC377B3E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9C-909A-449C-A563-DAC5B68C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FAA-49A8-4699-A87C-ED9ABBC4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03B-5B62-4CE5-A503-6C143B62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340-92E3-4076-BE7D-6A5BF2B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21F-67F0-4B56-87CC-43EC876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F29-0271-4619-805D-A9517BC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0B3-6BA8-43A9-BB1A-6C06C3C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3C1-1503-436F-83CE-7A76A678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4CC-0110-47C3-8FCF-A9AED47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7E4-3472-4327-8E28-73E52CB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F5CF-CEBE-4103-B998-1D7CA6FD62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03640" y="836640"/>
            <a:ext cx="5364000" cy="38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lking abou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5" descr="J0202096"/>
          <p:cNvPicPr/>
          <p:nvPr/>
        </p:nvPicPr>
        <p:blipFill>
          <a:blip r:embed="rId1"/>
          <a:stretch/>
        </p:blipFill>
        <p:spPr>
          <a:xfrm>
            <a:off x="0" y="213372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N02512_"/>
          <p:cNvPicPr/>
          <p:nvPr/>
        </p:nvPicPr>
        <p:blipFill>
          <a:blip r:embed="rId1"/>
          <a:stretch/>
        </p:blipFill>
        <p:spPr>
          <a:xfrm>
            <a:off x="0" y="0"/>
            <a:ext cx="4599000" cy="312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BD19581_"/>
          <p:cNvPicPr/>
          <p:nvPr/>
        </p:nvPicPr>
        <p:blipFill>
          <a:blip r:embed="rId2"/>
          <a:stretch/>
        </p:blipFill>
        <p:spPr>
          <a:xfrm>
            <a:off x="5978520" y="2590920"/>
            <a:ext cx="2859120" cy="426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AN01308_"/>
          <p:cNvPicPr/>
          <p:nvPr/>
        </p:nvPicPr>
        <p:blipFill>
          <a:blip r:embed="rId3"/>
          <a:stretch/>
        </p:blipFill>
        <p:spPr>
          <a:xfrm>
            <a:off x="4900680" y="0"/>
            <a:ext cx="4243320" cy="346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01652_"/>
          <p:cNvPicPr/>
          <p:nvPr/>
        </p:nvPicPr>
        <p:blipFill>
          <a:blip r:embed="rId4"/>
          <a:stretch/>
        </p:blipFill>
        <p:spPr>
          <a:xfrm>
            <a:off x="457200" y="3355920"/>
            <a:ext cx="4800600" cy="3227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165320" y="31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75840" y="2016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1) DOG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876920" y="3808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2) FISH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2920" y="332568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3) CA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81374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420600" y="2639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4) PARROT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692280"/>
            <a:ext cx="820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Look at the pictures and say what they used to do. Then, practice with your partner the following convers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: What did George  use to do when he  was young?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5280" y="393372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B: He  used to…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j0344838"/>
          <p:cNvPicPr/>
          <p:nvPr/>
        </p:nvPicPr>
        <p:blipFill>
          <a:blip r:embed="rId1"/>
          <a:stretch/>
        </p:blipFill>
        <p:spPr>
          <a:xfrm>
            <a:off x="1042920" y="1052640"/>
            <a:ext cx="1656000" cy="1657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250920" y="0"/>
            <a:ext cx="5472000" cy="5300640"/>
          </a:xfrm>
          <a:prstGeom prst="cloudCallout">
            <a:avLst>
              <a:gd name="adj1" fmla="val 62356"/>
              <a:gd name="adj2" fmla="val 32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300720" y="227664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Georg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8" descr="j0303468"/>
          <p:cNvPicPr/>
          <p:nvPr/>
        </p:nvPicPr>
        <p:blipFill>
          <a:blip r:embed="rId2"/>
          <a:stretch/>
        </p:blipFill>
        <p:spPr>
          <a:xfrm>
            <a:off x="3995640" y="1197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E02634_"/>
          <p:cNvPicPr/>
          <p:nvPr/>
        </p:nvPicPr>
        <p:blipFill>
          <a:blip r:embed="rId3"/>
          <a:stretch/>
        </p:blipFill>
        <p:spPr>
          <a:xfrm>
            <a:off x="6516720" y="3716280"/>
            <a:ext cx="262728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E02655_"/>
          <p:cNvPicPr/>
          <p:nvPr/>
        </p:nvPicPr>
        <p:blipFill>
          <a:blip r:embed="rId4"/>
          <a:stretch/>
        </p:blipFill>
        <p:spPr>
          <a:xfrm>
            <a:off x="2916360" y="2565360"/>
            <a:ext cx="2016000" cy="1765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j0300493"/>
          <p:cNvPicPr/>
          <p:nvPr/>
        </p:nvPicPr>
        <p:blipFill>
          <a:blip r:embed="rId5"/>
          <a:stretch/>
        </p:blipFill>
        <p:spPr>
          <a:xfrm>
            <a:off x="2484360" y="620640"/>
            <a:ext cx="1400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71680" y="1785960"/>
            <a:ext cx="755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eorge used  to dance, to play soccer, to swim, and to row a boat.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642960" y="214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ossible answer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1484280"/>
          <a:ext cx="8137440" cy="5257800"/>
        </p:xfrm>
        <a:graphic>
          <a:graphicData uri="http://schemas.openxmlformats.org/drawingml/2006/table">
            <a:tbl>
              <a:tblPr/>
              <a:tblGrid>
                <a:gridCol w="2232000"/>
                <a:gridCol w="1836720"/>
                <a:gridCol w="2035080"/>
                <a:gridCol w="20336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9" descr="j0174003"/>
          <p:cNvPicPr/>
          <p:nvPr/>
        </p:nvPicPr>
        <p:blipFill>
          <a:blip r:embed="rId1"/>
          <a:stretch/>
        </p:blipFill>
        <p:spPr>
          <a:xfrm>
            <a:off x="6804000" y="1663560"/>
            <a:ext cx="136836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j0303458"/>
          <p:cNvPicPr/>
          <p:nvPr/>
        </p:nvPicPr>
        <p:blipFill>
          <a:blip r:embed="rId2"/>
          <a:stretch/>
        </p:blipFill>
        <p:spPr>
          <a:xfrm>
            <a:off x="4788000" y="1628640"/>
            <a:ext cx="1439640" cy="1008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2"/>
          <p:cNvSpPr/>
          <p:nvPr/>
        </p:nvSpPr>
        <p:spPr>
          <a:xfrm>
            <a:off x="468360" y="542592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 the morn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22200" y="26449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fter work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395280" y="40845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in the evening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179280" y="210960"/>
            <a:ext cx="95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id  Susan do  yester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3276720" y="3645000"/>
            <a:ext cx="1008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37"/>
          <p:cNvSpPr/>
          <p:nvPr/>
        </p:nvSpPr>
        <p:spPr>
          <a:xfrm>
            <a:off x="4716360" y="306864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AutoShape 38"/>
          <p:cNvSpPr/>
          <p:nvPr/>
        </p:nvSpPr>
        <p:spPr>
          <a:xfrm>
            <a:off x="2916360" y="5661000"/>
            <a:ext cx="96192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9"/>
          <p:cNvSpPr/>
          <p:nvPr/>
        </p:nvSpPr>
        <p:spPr>
          <a:xfrm>
            <a:off x="6732720" y="4292640"/>
            <a:ext cx="96192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41" descr="J0182793"/>
          <p:cNvPicPr/>
          <p:nvPr/>
        </p:nvPicPr>
        <p:blipFill>
          <a:blip r:embed="rId3"/>
          <a:stretch/>
        </p:blipFill>
        <p:spPr>
          <a:xfrm>
            <a:off x="2771640" y="1628640"/>
            <a:ext cx="1511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42960" y="1643040"/>
            <a:ext cx="7921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n the morning Susan went  to work. After work she went  to the gym. In the evening she watched TV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785880" y="357120"/>
            <a:ext cx="95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1989000"/>
            <a:ext cx="8893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s  to past  habits or things that do not happen any mor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used  to sleep for long hours. (I do not do it any more)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419640" y="260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sed  to…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illa Clara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87280" y="404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000000"/>
                </a:solidFill>
                <a:latin typeface="Times New Roman"/>
              </a:rPr>
              <a:t>When  I  was  a  child  I </a:t>
            </a:r>
            <a:r>
              <a:rPr b="0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used</a:t>
            </a:r>
            <a:r>
              <a:rPr b="1" i="1" lang="es-E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r>
              <a:rPr b="0" i="1" lang="es-ES" sz="5400" spc="-1" strike="noStrike">
                <a:solidFill>
                  <a:srgbClr val="000000"/>
                </a:solidFill>
                <a:latin typeface="Times New Roman"/>
              </a:rPr>
              <a:t>  live  in  the   countrysid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H02063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50920" y="58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87200" y="228600"/>
            <a:ext cx="906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Times New Roman"/>
              </a:rPr>
              <a:t>Now, I  live in  a beautiful city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7164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95280" y="3006720"/>
            <a:ext cx="84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  you use to pla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he guitar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Yes, but  I  don’t play it any mor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4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77164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2771640"/>
            <a:ext cx="8748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use  to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go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in summer when you were a child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used  to  visit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my grandparent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Picture 4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6920" y="111132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Select which of these pets  you used to have  at home when  you were  a child.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6:54Z</dcterms:modified>
  <cp:revision>47</cp:revision>
  <dc:subject/>
  <dc:title>PowerPoint Presentation</dc:title>
</cp:coreProperties>
</file>