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gif" ContentType="image/gif"/>
  <Override PartName="/ppt/media/image10.wmf" ContentType="image/x-wmf"/>
  <Override PartName="/ppt/media/image4.jpeg" ContentType="image/jpeg"/>
  <Override PartName="/ppt/media/image7.wmf" ContentType="image/x-wmf"/>
  <Override PartName="/ppt/media/image17.gif" ContentType="image/gif"/>
  <Override PartName="/ppt/media/image2.wmf" ContentType="image/x-wmf"/>
  <Override PartName="/ppt/media/image16.gif" ContentType="image/gif"/>
  <Override PartName="/ppt/media/image15.gif" ContentType="image/gif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3.wmf" ContentType="image/x-wmf"/>
  <Override PartName="/ppt/media/image6.wmf" ContentType="image/x-wmf"/>
  <Override PartName="/ppt/media/image11.wmf" ContentType="image/x-wmf"/>
  <Override PartName="/ppt/media/image18.jpeg" ContentType="image/jpeg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5B01-2772-472B-920A-F383A833EF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E391-87CC-44A2-BE52-373E4C80E6B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74E-3065-49A1-A52F-2DE0C4E2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075-22AE-418C-A70F-51B420F4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CD7-E8D9-4484-80E3-77D4BB3E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CCA-FD0F-4D69-B77E-2D2C4D0E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59E0-E188-489B-A4E8-3BADE192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6BF-6714-4826-80DD-FDC56B72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DFF-6127-42A0-A9BD-03B2199B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A75-2A81-4D10-BCF3-54D5D4F1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B6F6-E40D-4EE5-A791-084F23A1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C58-D672-4719-B544-F9C3D0E0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E70-D4C6-45A6-BD5C-C89B61DF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C6F-27B8-4478-8C7F-34DF4AC2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6706-5E00-4C35-B2D5-561268C1EF4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03640" y="836640"/>
            <a:ext cx="5364000" cy="38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lking about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st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5" descr="J0202096"/>
          <p:cNvPicPr/>
          <p:nvPr/>
        </p:nvPicPr>
        <p:blipFill>
          <a:blip r:embed="rId1"/>
          <a:stretch/>
        </p:blipFill>
        <p:spPr>
          <a:xfrm>
            <a:off x="0" y="2133720"/>
            <a:ext cx="3780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AN02512_"/>
          <p:cNvPicPr/>
          <p:nvPr/>
        </p:nvPicPr>
        <p:blipFill>
          <a:blip r:embed="rId1"/>
          <a:stretch/>
        </p:blipFill>
        <p:spPr>
          <a:xfrm>
            <a:off x="0" y="0"/>
            <a:ext cx="4599000" cy="312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BD19581_"/>
          <p:cNvPicPr/>
          <p:nvPr/>
        </p:nvPicPr>
        <p:blipFill>
          <a:blip r:embed="rId2"/>
          <a:stretch/>
        </p:blipFill>
        <p:spPr>
          <a:xfrm>
            <a:off x="5978520" y="2590920"/>
            <a:ext cx="2859120" cy="4267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AN01308_"/>
          <p:cNvPicPr/>
          <p:nvPr/>
        </p:nvPicPr>
        <p:blipFill>
          <a:blip r:embed="rId3"/>
          <a:stretch/>
        </p:blipFill>
        <p:spPr>
          <a:xfrm>
            <a:off x="4900680" y="0"/>
            <a:ext cx="4243320" cy="3468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N01652_"/>
          <p:cNvPicPr/>
          <p:nvPr/>
        </p:nvPicPr>
        <p:blipFill>
          <a:blip r:embed="rId4"/>
          <a:stretch/>
        </p:blipFill>
        <p:spPr>
          <a:xfrm>
            <a:off x="457200" y="3355920"/>
            <a:ext cx="4800600" cy="3227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165320" y="31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275840" y="2016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1) DOG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876920" y="3808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2) FISH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22920" y="332568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3) CA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8137440" y="270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420600" y="2639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4) PARROTS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11280" y="692280"/>
            <a:ext cx="8208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Look at the pictures and say what they used to do. Then, practice with your partner the following conversation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39640" y="54936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A: What did George  use to do when he  was young?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95280" y="3933720"/>
            <a:ext cx="81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B: He  used to…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j0344838"/>
          <p:cNvPicPr/>
          <p:nvPr/>
        </p:nvPicPr>
        <p:blipFill>
          <a:blip r:embed="rId1"/>
          <a:stretch/>
        </p:blipFill>
        <p:spPr>
          <a:xfrm>
            <a:off x="1042920" y="1052640"/>
            <a:ext cx="1656000" cy="1657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>
            <a:off x="250920" y="0"/>
            <a:ext cx="5472000" cy="5300640"/>
          </a:xfrm>
          <a:prstGeom prst="cloudCallout">
            <a:avLst>
              <a:gd name="adj1" fmla="val 62356"/>
              <a:gd name="adj2" fmla="val 325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300720" y="2276640"/>
            <a:ext cx="28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George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Picture 8" descr="j0303468"/>
          <p:cNvPicPr/>
          <p:nvPr/>
        </p:nvPicPr>
        <p:blipFill>
          <a:blip r:embed="rId2"/>
          <a:stretch/>
        </p:blipFill>
        <p:spPr>
          <a:xfrm>
            <a:off x="3995640" y="119700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PE02634_"/>
          <p:cNvPicPr/>
          <p:nvPr/>
        </p:nvPicPr>
        <p:blipFill>
          <a:blip r:embed="rId3"/>
          <a:stretch/>
        </p:blipFill>
        <p:spPr>
          <a:xfrm>
            <a:off x="6516720" y="3716280"/>
            <a:ext cx="2627280" cy="295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PE02655_"/>
          <p:cNvPicPr/>
          <p:nvPr/>
        </p:nvPicPr>
        <p:blipFill>
          <a:blip r:embed="rId4"/>
          <a:stretch/>
        </p:blipFill>
        <p:spPr>
          <a:xfrm>
            <a:off x="2916360" y="2565360"/>
            <a:ext cx="2016000" cy="1765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j0300493"/>
          <p:cNvPicPr/>
          <p:nvPr/>
        </p:nvPicPr>
        <p:blipFill>
          <a:blip r:embed="rId5"/>
          <a:stretch/>
        </p:blipFill>
        <p:spPr>
          <a:xfrm>
            <a:off x="2484360" y="620640"/>
            <a:ext cx="1400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571680" y="1785960"/>
            <a:ext cx="7559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George used  to dance, to play soccer, to swim, and to row a boat.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Text Box 35"/>
          <p:cNvSpPr/>
          <p:nvPr/>
        </p:nvSpPr>
        <p:spPr>
          <a:xfrm>
            <a:off x="642960" y="2142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Possible answers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95280" y="1484280"/>
          <a:ext cx="8137440" cy="5257800"/>
        </p:xfrm>
        <a:graphic>
          <a:graphicData uri="http://schemas.openxmlformats.org/drawingml/2006/table">
            <a:tbl>
              <a:tblPr/>
              <a:tblGrid>
                <a:gridCol w="2232000"/>
                <a:gridCol w="1836720"/>
                <a:gridCol w="2035080"/>
                <a:gridCol w="203364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29" descr="j0174003"/>
          <p:cNvPicPr/>
          <p:nvPr/>
        </p:nvPicPr>
        <p:blipFill>
          <a:blip r:embed="rId1"/>
          <a:stretch/>
        </p:blipFill>
        <p:spPr>
          <a:xfrm>
            <a:off x="6804000" y="1663560"/>
            <a:ext cx="136836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0" descr="j0303458"/>
          <p:cNvPicPr/>
          <p:nvPr/>
        </p:nvPicPr>
        <p:blipFill>
          <a:blip r:embed="rId2"/>
          <a:stretch/>
        </p:blipFill>
        <p:spPr>
          <a:xfrm>
            <a:off x="4788000" y="1628640"/>
            <a:ext cx="1439640" cy="1008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2"/>
          <p:cNvSpPr/>
          <p:nvPr/>
        </p:nvSpPr>
        <p:spPr>
          <a:xfrm>
            <a:off x="468360" y="542592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n  the morning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322200" y="264492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after work</a:t>
            </a:r>
            <a:endParaRPr b="1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Text Box 34"/>
          <p:cNvSpPr/>
          <p:nvPr/>
        </p:nvSpPr>
        <p:spPr>
          <a:xfrm>
            <a:off x="395280" y="40845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in the evening</a:t>
            </a:r>
            <a:endParaRPr b="1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Text Box 35"/>
          <p:cNvSpPr/>
          <p:nvPr/>
        </p:nvSpPr>
        <p:spPr>
          <a:xfrm>
            <a:off x="179280" y="210960"/>
            <a:ext cx="950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did  Susan do  yester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Text Box 36"/>
          <p:cNvSpPr/>
          <p:nvPr/>
        </p:nvSpPr>
        <p:spPr>
          <a:xfrm>
            <a:off x="3276720" y="3645000"/>
            <a:ext cx="1008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AutoShape 37"/>
          <p:cNvSpPr/>
          <p:nvPr/>
        </p:nvSpPr>
        <p:spPr>
          <a:xfrm>
            <a:off x="4716360" y="306864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AutoShape 38"/>
          <p:cNvSpPr/>
          <p:nvPr/>
        </p:nvSpPr>
        <p:spPr>
          <a:xfrm>
            <a:off x="2916360" y="5661000"/>
            <a:ext cx="96192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AutoShape 39"/>
          <p:cNvSpPr/>
          <p:nvPr/>
        </p:nvSpPr>
        <p:spPr>
          <a:xfrm>
            <a:off x="6732720" y="4292640"/>
            <a:ext cx="96192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Picture 41" descr="J0182793"/>
          <p:cNvPicPr/>
          <p:nvPr/>
        </p:nvPicPr>
        <p:blipFill>
          <a:blip r:embed="rId3"/>
          <a:stretch/>
        </p:blipFill>
        <p:spPr>
          <a:xfrm>
            <a:off x="2771640" y="1628640"/>
            <a:ext cx="15112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42960" y="1643040"/>
            <a:ext cx="7921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In the morning Susan went  to work. After work she went  to the gym. In the evening she watched TV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785880" y="357120"/>
            <a:ext cx="95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ossible answers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2692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j0299125"/>
          <p:cNvPicPr/>
          <p:nvPr/>
        </p:nvPicPr>
        <p:blipFill>
          <a:blip r:embed="rId2"/>
          <a:stretch/>
        </p:blipFill>
        <p:spPr>
          <a:xfrm>
            <a:off x="7524720" y="4292640"/>
            <a:ext cx="16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50920" y="1989000"/>
            <a:ext cx="889308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refers  to past  habits or things that do not happen any more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used  to sleep for long hours. (I do not do it any more)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2050920" cy="2133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419640" y="26028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Used  to…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Villa Clara 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87280" y="4046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5400" spc="-1" strike="noStrike">
                <a:solidFill>
                  <a:srgbClr val="000000"/>
                </a:solidFill>
                <a:latin typeface="Times New Roman"/>
              </a:rPr>
              <a:t>When  I  was  a  child  I </a:t>
            </a:r>
            <a:r>
              <a:rPr b="0" i="1" lang="es-E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s-ES" sz="5400" spc="-1" strike="noStrike" u="sng">
                <a:solidFill>
                  <a:srgbClr val="000000"/>
                </a:solidFill>
                <a:uFillTx/>
                <a:latin typeface="Times New Roman"/>
              </a:rPr>
              <a:t>used</a:t>
            </a:r>
            <a:r>
              <a:rPr b="1" i="1" lang="es-E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o</a:t>
            </a:r>
            <a:r>
              <a:rPr b="0" i="1" lang="es-ES" sz="5400" spc="-1" strike="noStrike">
                <a:solidFill>
                  <a:srgbClr val="000000"/>
                </a:solidFill>
                <a:latin typeface="Times New Roman"/>
              </a:rPr>
              <a:t>  live  in  the   countryside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H02063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250920" y="58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87200" y="228600"/>
            <a:ext cx="906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0000"/>
                </a:solidFill>
                <a:latin typeface="Times New Roman"/>
              </a:rPr>
              <a:t>Now, I  live in  a beautiful city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771640" y="76500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sking questions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95280" y="3006720"/>
            <a:ext cx="8497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Did  you use to play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the guitar?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Yes, but  I  don’t play it any more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Picture 4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771640" y="76500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sking questions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95280" y="2771640"/>
            <a:ext cx="87487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Wher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did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you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use  to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go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in summer when you were a child?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used  to  visit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 my grandparents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Picture 4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96920" y="1111320"/>
            <a:ext cx="883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00"/>
                </a:solidFill>
                <a:latin typeface="Times New Roman"/>
              </a:rPr>
              <a:t>Select which of these pets  you used to have  at home when  you were  a child.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8:56:54Z</dcterms:modified>
  <cp:revision>47</cp:revision>
  <dc:subject/>
  <dc:title>PowerPoint Presentation</dc:title>
</cp:coreProperties>
</file>